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DC0-5D3C-4AEA-B5CF-6651272A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667-96DC-4CCD-9F67-199F392A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5D2-C751-42E6-A823-75E903C4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B42-DF7C-4838-9D05-0292DFAF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617-93A0-4117-AA67-707375DC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EC3-7BF4-4B33-B3C6-9A8A098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5F5-9BFC-45A5-987F-1D676A3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3F8-E11F-4CFE-848E-A8C7580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CD8-0C15-4AD3-B367-27108C53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D25-0F66-4405-8271-7A9313D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7F2-D395-4CF2-914C-FC590D1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06A-6119-4917-89FC-F390346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05C-66C6-4025-8738-79BA38911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EPC LogoCMYK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2743200" cy="98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14800" y="314280"/>
            <a:ext cx="441972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OA LM6000 Proje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ocated Adjacent to Existing TACOA 1,500 MW Power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will be Shared with (2) LM2500 Gas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MW Capacity from (2) LM6000 Gas Turbines Purchased by EDC from the US Surplus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will Operate on Natural Gas with Wate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OP Equipment to be Supplied by ProEnergy 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to Design, and Construct the Project on a Turnkey Basis Utilizing US Based Engineering and Projec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Local Subcontractors for Civil, Erection and Electrical-Mechanical Labor to Construct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Energy EPC will Utilize ProEnergy US-Based Technicians for Commissioning and Testing of the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chedule Kick-off June 1, 2009 &amp; COD Dec.30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ial View of the TACOA Projec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1320840"/>
          <a:ext cx="716292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20840"/>
                    <a:ext cx="71629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14400" y="941400"/>
          <a:ext cx="73915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1400"/>
                    <a:ext cx="7391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1000080"/>
          <a:ext cx="754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00080"/>
                    <a:ext cx="754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824040"/>
          <a:ext cx="7772400" cy="60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24040"/>
                    <a:ext cx="7772400" cy="60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9:55:54Z</dcterms:created>
  <dc:creator>PES</dc:creator>
  <dc:description/>
  <dc:language>en-US</dc:language>
  <cp:lastModifiedBy>PES</cp:lastModifiedBy>
  <dcterms:modified xsi:type="dcterms:W3CDTF">2009-05-19T22:57:45Z</dcterms:modified>
  <cp:revision>13</cp:revision>
  <dc:subject/>
  <dc:title>Slide 1</dc:title>
</cp:coreProperties>
</file>